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BD2-5E07-4537-87FF-7A916B34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1C3-19B1-40FE-B36E-B6D6EFBE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62E-7DB5-45FB-B5D2-495FC0A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598-28C0-4F86-909D-6E25A714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D481-026A-45CF-9454-5B10DB58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E96-E140-4A00-9C7B-75F1A20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D60-C9A8-4C1F-A933-E8C9BE7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143F-AF50-4047-AA6C-07039AA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893F-C244-4320-9979-E617E715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0498-A0B3-4C7E-976E-4A545A0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6002-B770-4C33-B5B2-D1C06A6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46B-CBA2-433D-98F5-E30690C4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FDB2-7901-405F-883F-6F7CAD8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3E6F-6244-42A7-A84B-AC999A4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5A0-B3B2-4B53-AE1C-1781E39B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335-0941-4A18-80B4-9B57EA0B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7749-250C-4936-903D-1118C1A4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E018-D522-4EE9-82E7-39F1446A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4225-9C40-4B65-A99F-15EEB0A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9153-4A84-4D1D-B568-3FF96DF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5B9D-EF8C-4ABE-9B73-455CC40B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9232-9E85-47BA-9E85-5F19217F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188-0349-4BE0-9778-FF0CB44A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A5CF-D020-4618-856C-67636F3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74D5-A872-4192-9DB0-D84CB7E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65C3-4766-458D-9816-F322E28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5327-7062-44E7-AD87-637ADB3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18EA-BFCF-4466-BC56-E0765E4A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6B5F-330F-43C4-BB44-E8C3528B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588B-E9AF-4067-9CAE-9413BB02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FEA5-A432-4FAB-80B7-00E469AD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4B9C-A7CB-471E-8417-529A77F9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A28D-907F-4F5C-8B7D-C05F2D9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D46-1692-4A70-8521-DC1A439A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14D0-D85A-4D6B-BD3B-657ACFF4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C4C4-9B94-4563-BB86-D088A1C7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C7D0-1E86-4D07-AB5C-F2F8A382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8D26-3E96-4465-8455-1E094F4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5DD4-626E-414A-991B-BAC8A3E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E3E2-F726-465B-8134-31D2CFA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E9C1-08AB-4DAB-AA72-7FFC7999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BEB1-4200-4ED8-8530-EFD85D69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CE326-0F93-45D2-8149-35115A40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671-2518-4639-9CDA-8A14C965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D08-6D94-4367-9E03-72B415E6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010-6D86-4B43-B12A-8D3667A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DB4-A302-408F-B05C-99B9BE5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262-5501-4AD1-AEFC-290E542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DCD-F641-4AE6-BFBA-B5D1B0C943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DDF7-3937-4213-A1A0-2EE3692878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1950-05D7-4105-ADCF-09000518C60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B49B-9EB3-426E-81FF-6F42DAFAE0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95/49095620_kometa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-main-pic" descr="Картинка 92 из 72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000080"/>
            <a:ext cx="7358040" cy="52866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3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ыполнил:  Лобанов Алексей Александро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тудент 4 кур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ко-математический факульт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ыктывкар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? Основополагающий вопрос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99" name="Содержимое 2"/>
          <p:cNvGrpSpPr/>
          <p:nvPr/>
        </p:nvGrpSpPr>
        <p:grpSpPr>
          <a:xfrm>
            <a:off x="450720" y="1925640"/>
            <a:ext cx="8242560" cy="4408560"/>
            <a:chOff x="450720" y="1925640"/>
            <a:chExt cx="8242560" cy="4408560"/>
          </a:xfrm>
        </p:grpSpPr>
        <p:pic>
          <p:nvPicPr>
            <p:cNvPr id="20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0720" y="1925640"/>
              <a:ext cx="824256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193500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Calibri"/>
                </a:rPr>
                <a:t>Есть ли шанс проснуться завтра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Рисунок 3" descr="http://www.impactlab.com/wp-content/uploads/2009/04/comet_1294349c.jpg"/>
          <p:cNvPicPr/>
          <p:nvPr/>
        </p:nvPicPr>
        <p:blipFill>
          <a:blip r:embed="rId2"/>
          <a:stretch/>
        </p:blipFill>
        <p:spPr>
          <a:xfrm>
            <a:off x="1928880" y="2571840"/>
            <a:ext cx="53337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? Проблемные вопросы 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олкнется ли комета с Зем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  устроен организм кометы Галле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живают  ли кометы до пенс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 далеко кометы могут от нас убеж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мотрим скелет коме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утешествие ком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2580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и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сс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рческое зад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зентац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блиц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то - репортаж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обще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Распределение по группа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285920"/>
          <a:ext cx="8229600" cy="5246640"/>
        </p:xfrm>
        <a:graphic>
          <a:graphicData uri="http://schemas.openxmlformats.org/drawingml/2006/table">
            <a:tbl>
              <a:tblPr/>
              <a:tblGrid>
                <a:gridCol w="1042920"/>
                <a:gridCol w="3714840"/>
                <a:gridCol w="1414440"/>
                <a:gridCol w="2057400"/>
              </a:tblGrid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кнется ли комета с Земл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 устроен организм кометы Галле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живают  ли кометы до пенси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далеко кометы могут от нас убеж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мотрим скелет коме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утешествие ком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должительность проект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 неде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rugosvet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astro.websib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1:06:24Z</dcterms:created>
  <dc:creator>Анжелика</dc:creator>
  <dc:description/>
  <dc:language>en-US</dc:language>
  <cp:lastModifiedBy>Анжелика</cp:lastModifiedBy>
  <dcterms:modified xsi:type="dcterms:W3CDTF">2010-06-07T20:12:48Z</dcterms:modified>
  <cp:revision>13</cp:revision>
  <dc:subject/>
  <dc:title>Малые тела Солнечной системы</dc:title>
</cp:coreProperties>
</file>